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1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6.wmf" ContentType="image/x-wmf"/>
  <Override PartName="/ppt/media/image9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F4296-1171-4BD5-9C15-795C2CFD44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each time slot the signal is assigned a frequency band, signal moves around band, immune from narrowband noise interference. Users are defined pseudorandom codes. Time synchronization among users not requir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 Sequence Spread Spectrum – spreads the signal over a wide bandwidth to lower pow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 stations communicate with the Mobile Switching Center which controls subscriber verification, what tower subscriber is near, handoffs, links to Public Switched Telephone Net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s with the same letter reuse the same frequencies, cell clusters are outlined in bold. The typical cluster size is N=7, with a frequency reuse factor of 1/7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low power cells, increases the number of possible users by reusing frequencies, for example: we go from 12 conversations with one transmitter to 1200 conversations with 100 smaller transmitters. Note that user power control is critical here. – to prevent interference with adjoining cel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quency reus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 channels =k N; k – group of k channels divided among N cells in a cluster (typically 4,7,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= total number of duplex channels = M S = M k N; M is the number of clusters in a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ll cluster size means that co-channel cells are closer, but higher capacity in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ge cluster size, less interfer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=I^2 + I*J + j^2 for no gaps in cover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of frequency reuse calculation see no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ynamic is more complex, needs channel occupancy, traffic distribution, signal strength indic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pends on MSC capabilities, coordination between MS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ssing call between cells, when, where, what channe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a user passes between cells, needs voice and control signals to be realloca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d on power margins = P_handoff –P_minimum =delta, if delta too large, system is handing off frequently, if too low, calls can drop below minimum and be lost due to insufficient time to handoff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ed to prioritize handoffs –don’t want to drop calls, better not to let a call be plac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er systems (second generation): Mobile assisted handoffs- mobiles measure signal strength from nearby base stations and reports results to the active base stations, when power from adjacent exceeds that of active, handoff initiated. Good for microcel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get complicated for microcells and high-speed users, when users roam into another company’s net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ed to make decision at right time, don’t want to switch due to momentary fa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pends on power level, loading in adjacent cells, channel availabi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y to predict user dwell time in cells – works for highways which have known speed ranges and length; not good for microcells, complex environm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 speed users use larger cells, too many handoffs for microcells and slow users- urban 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SC tries to estimate user spe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same tower for different power transmit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 Dragging – a slow moving user can have a line-of sight signal be quite strong and signal strength does not decay quickly, this can “stretch” the c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er systems-spread spectrum users share channels in different cells, received by multiple base stations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Can’t overcome by increasing power, just causes more interference, need to separate (propogation isolation), Q=D/R, R- radius of cell, D istance between centers of co-channel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 – co-channel reuse ratio (N=3,Q=3;N=7,Q=4.6;N=12, Q=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R – signal to interference ratio = S/I=signal power/(sum of all interferer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reduce co-channel interference due to directiona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roves S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precise power control needed, can add small cells in dense areas, leave others b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ires new basestations,more handoff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CH=block coding method for error detection and correction, non-binary, part of Reed-Solomon C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T –supervisory tones during voice transmission to confirm that the base station/mobile are properly connected, handshake repeated at least every 250 ms. Mobile decodes and transmits back to ba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deband blank-and-burst encoding- wideband 10 kbps data streams, uses NRZ, Manchester (bi-phase coding), concentrated at 10kHz, sends a wide array of commands to users, uses BCH block codes less than 100 ms in du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eded method for better spectrum use, break coverage area into small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ires timing synchron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advanced versions use channelization where time/frequency domains are split into smaller channels and time slots, then allocated to users, packetiz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419E9-E8FA-4D89-8C08-23EF98A83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01555-BC25-4AE0-B48E-A4EFAC39C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53955-278E-4F6E-9D7E-FAA11793F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CE0E4-F66C-4B1B-863F-278E9EA88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A06AC-9701-4BD3-95C0-F8483D626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E6D8F-0F16-4CEB-8F7E-CCDBDDF33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5973B-99EB-4831-B0F3-5FA48E7A6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D2EEB-8702-43FC-82A6-E2B96B764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98DB6-7D20-4117-A5EA-10E5F1A6C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C3EA2-9463-4970-B79A-39054AF78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DFF8D-FF0E-4FFB-8A25-20F55D7B4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7A660-572E-423F-AFF5-387659262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9B2D2-25F7-4DDF-AD6B-5792E005C48F}" type="datetime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5D5C3-BE56-4749-ACFA-DC15356E57C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ntroduction to the Advanced Mobile Phone System (AMPS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E421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all 2001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r. Julie Dickerson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DMA-Code Division Multiple Access:  Frequency Hopp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2133720" y="2285640"/>
            <a:ext cx="0" cy="251460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133720" y="4800600"/>
            <a:ext cx="502920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43400" y="510552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143000" y="1752480"/>
            <a:ext cx="3808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Frequency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286000" y="2438280"/>
            <a:ext cx="76212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86000" y="4343400"/>
            <a:ext cx="762120" cy="457200"/>
          </a:xfrm>
          <a:prstGeom prst="rect">
            <a:avLst/>
          </a:prstGeom>
          <a:solidFill>
            <a:srgbClr val="ff66cc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286000" y="3733920"/>
            <a:ext cx="762120" cy="457200"/>
          </a:xfrm>
          <a:prstGeom prst="rect">
            <a:avLst/>
          </a:prstGeom>
          <a:solidFill>
            <a:srgbClr val="ff7c8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286000" y="3048120"/>
            <a:ext cx="762120" cy="457200"/>
          </a:xfrm>
          <a:prstGeom prst="rect">
            <a:avLst/>
          </a:prstGeom>
          <a:solidFill>
            <a:srgbClr val="66ff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715000" y="3733920"/>
            <a:ext cx="76212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648320" y="4343400"/>
            <a:ext cx="76176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429000" y="4343400"/>
            <a:ext cx="76212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715000" y="4343400"/>
            <a:ext cx="762120" cy="457200"/>
          </a:xfrm>
          <a:prstGeom prst="rect">
            <a:avLst/>
          </a:prstGeom>
          <a:solidFill>
            <a:srgbClr val="66ff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648320" y="3733920"/>
            <a:ext cx="761760" cy="457200"/>
          </a:xfrm>
          <a:prstGeom prst="rect">
            <a:avLst/>
          </a:prstGeom>
          <a:solidFill>
            <a:srgbClr val="66ff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429000" y="2438280"/>
            <a:ext cx="762120" cy="457200"/>
          </a:xfrm>
          <a:prstGeom prst="rect">
            <a:avLst/>
          </a:prstGeom>
          <a:solidFill>
            <a:srgbClr val="66ff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715000" y="2438280"/>
            <a:ext cx="762120" cy="457200"/>
          </a:xfrm>
          <a:prstGeom prst="rect">
            <a:avLst/>
          </a:prstGeom>
          <a:solidFill>
            <a:srgbClr val="ff7c8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648320" y="3048120"/>
            <a:ext cx="761760" cy="457200"/>
          </a:xfrm>
          <a:prstGeom prst="rect">
            <a:avLst/>
          </a:prstGeom>
          <a:solidFill>
            <a:srgbClr val="ff7c8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429000" y="3733920"/>
            <a:ext cx="762120" cy="457200"/>
          </a:xfrm>
          <a:prstGeom prst="rect">
            <a:avLst/>
          </a:prstGeom>
          <a:solidFill>
            <a:srgbClr val="ff7c8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715000" y="3048120"/>
            <a:ext cx="762120" cy="457200"/>
          </a:xfrm>
          <a:prstGeom prst="rect">
            <a:avLst/>
          </a:prstGeom>
          <a:solidFill>
            <a:srgbClr val="ff66cc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648320" y="2438280"/>
            <a:ext cx="761760" cy="457200"/>
          </a:xfrm>
          <a:prstGeom prst="rect">
            <a:avLst/>
          </a:prstGeom>
          <a:solidFill>
            <a:srgbClr val="ff66cc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429000" y="3048120"/>
            <a:ext cx="762120" cy="457200"/>
          </a:xfrm>
          <a:prstGeom prst="rect">
            <a:avLst/>
          </a:prstGeom>
          <a:solidFill>
            <a:srgbClr val="ff66cc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E421 Fall 200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54D1F-395A-468E-B856-511D6DE46678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42BDB5-46D8-4A43-B592-A4A2C4ED87C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Table1.1Mobilestandards" descr=""/>
          <p:cNvPicPr/>
          <p:nvPr/>
        </p:nvPicPr>
        <p:blipFill>
          <a:blip r:embed="rId1"/>
          <a:stretch/>
        </p:blipFill>
        <p:spPr>
          <a:xfrm>
            <a:off x="1676520" y="228600"/>
            <a:ext cx="6019560" cy="5900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E421 Fall 2001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626F6-7B97-4C68-B1AF-425061472028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EE884F-A244-4F9D-AFE9-F83FB91E5A9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erminolog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61760" y="1218960"/>
            <a:ext cx="73911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Base Station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Fixed station used for radio communication with mobiles. Located at the center or edge of coverage region. Consists of radio channels, transmit/receive antennas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Control Channels 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Radio channels used for transmission of call setup, request, initiation and other control purpose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Full Duplex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Communication system that allows simultaneous two-way communication, transmission reception usually on two different frequencies (FDD)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E421 Fall 200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F2688-E3AD-44E0-95F5-628913ED3597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E1D060-86CC-47A3-A238-7FBCB1B4145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685800" y="3049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Forward Channel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Radio channel for transmission from base station to mobile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Reverse channel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Radio channel for transmission from mobile to base station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Handoff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rocess of transferring a mobile from one channel or base station to another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Mobile Switching Center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witching center that coordinates call routing in a large service area. MSC connects cellular base stations and the mobiles to the PSTN (also called Mobile Telephone switching office (MTSO)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E421 Fall 200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0A30D-0E8D-4BA9-A969-A1F5C7902603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B77D66-008D-4C58-B3B0-BDDFEECE30D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ireless System Basic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762120" y="2666880"/>
            <a:ext cx="990360" cy="2819520"/>
            <a:chOff x="762120" y="2666880"/>
            <a:chExt cx="990360" cy="2819520"/>
          </a:xfrm>
        </p:grpSpPr>
        <p:sp>
          <p:nvSpPr>
            <p:cNvPr id="115" name=""/>
            <p:cNvSpPr/>
            <p:nvPr/>
          </p:nvSpPr>
          <p:spPr>
            <a:xfrm flipV="1">
              <a:off x="762120" y="2666880"/>
              <a:ext cx="533160" cy="28195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flipH="1" flipV="1">
              <a:off x="1294920" y="2666880"/>
              <a:ext cx="381240" cy="28195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914400" y="4572000"/>
              <a:ext cx="685800" cy="53352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838080" y="4572000"/>
              <a:ext cx="685800" cy="53352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flipH="1" flipV="1">
              <a:off x="1066680" y="4114800"/>
              <a:ext cx="457200" cy="45720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>
              <a:off x="914400" y="4114800"/>
              <a:ext cx="533520" cy="45720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>
              <a:off x="1066680" y="3733920"/>
              <a:ext cx="381240" cy="38088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flipH="1" flipV="1">
              <a:off x="1066320" y="3733920"/>
              <a:ext cx="381240" cy="38088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066680" y="3733920"/>
              <a:ext cx="38124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838080" y="2819520"/>
              <a:ext cx="91440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752480" y="2666880"/>
              <a:ext cx="0" cy="30492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838080" y="2666880"/>
              <a:ext cx="0" cy="30492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914400" y="2666880"/>
              <a:ext cx="0" cy="30492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676520" y="2666880"/>
              <a:ext cx="0" cy="30492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pic>
        <p:nvPicPr>
          <p:cNvPr id="129" name="TN00332_" descr=""/>
          <p:cNvPicPr/>
          <p:nvPr/>
        </p:nvPicPr>
        <p:blipFill>
          <a:blip r:embed="rId1"/>
          <a:stretch/>
        </p:blipFill>
        <p:spPr>
          <a:xfrm>
            <a:off x="5638680" y="4267080"/>
            <a:ext cx="2210040" cy="109872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 rot="948000">
            <a:off x="1676160" y="3428640"/>
            <a:ext cx="4647960" cy="304920"/>
          </a:xfrm>
          <a:prstGeom prst="lightningBolt">
            <a:avLst/>
          </a:prstGeom>
          <a:solidFill>
            <a:srgbClr val="00cc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600200" y="34290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Forward Link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H="1" flipV="1">
            <a:off x="1904760" y="2666880"/>
            <a:ext cx="4647960" cy="144792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28954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Reverse Link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248520" y="533412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Mobile Unit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28600" y="556272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Base Station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828800" y="3048120"/>
            <a:ext cx="4038480" cy="1447560"/>
          </a:xfrm>
          <a:prstGeom prst="line">
            <a:avLst/>
          </a:prstGeom>
          <a:ln w="28440">
            <a:solidFill>
              <a:srgbClr val="ff66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200400" y="4267080"/>
            <a:ext cx="2209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Control or Setup Channel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E421 Fall 200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E5C00-2C54-43FC-970F-E0AE87B822EB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9C48E3-F4C1-4691-8EB7-DD7F6EC76C1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ellular Syste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39" name="fig1.5cellsystem" descr=""/>
          <p:cNvPicPr/>
          <p:nvPr/>
        </p:nvPicPr>
        <p:blipFill>
          <a:blip r:embed="rId1"/>
          <a:stretch/>
        </p:blipFill>
        <p:spPr>
          <a:xfrm>
            <a:off x="1447920" y="1371600"/>
            <a:ext cx="6618240" cy="4322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E421 Fall 200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56810-E8A6-4A7E-8468-029F1FB182AA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5ADDF4-BA30-4502-8DDC-BB708E92077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aking calls from a cellphon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60520" indent="-5605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Mobile sends call initiation request, its ID number to base station on reverse control channel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560520" indent="-5605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Base station receives and relays to the MSC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560520" indent="-5605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MSC validates user, instructs base station to move mobile to voice channel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560520" indent="-5605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Base station pages mobile with instruction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560520" indent="-5605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Mobile moves to voice channel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560520" indent="-5605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MSC connects mobile to PSTN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560520" indent="-5605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Voice transmission/reception between mobile and base station begin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560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E421 Fall 200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0A284-23C9-43D6-9D7F-B8BD1DEC734C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1676A8-D273-434E-AF50-E07DB30D8A9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aking calls to a cellphon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380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85000" indent="-5850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MSC receives call from PSTN , sends page to base station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585000" indent="-5850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Base stations send page on forward control channel to mobile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585000" indent="-5850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Mobile receives page and acknowledges on reverse control channel; sends validation information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585000" indent="-5850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MSC validates mobile, asks base station to put user on voice channel pair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585000" indent="-5850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Base station sends voice channel information on FCC, mobile moves to voice channel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585000" indent="-5850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Voice transmission/reception initiated; MSC connects with PSTN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E421 Fall 200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6E5DD-4056-4C00-B9C8-8F4F9CD0DA9E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ED706D-FCAE-413D-8A88-E2648ADFA69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orward/Reverse Channel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45" name="fig1.3.forward-reversechannel" descr=""/>
          <p:cNvPicPr/>
          <p:nvPr/>
        </p:nvPicPr>
        <p:blipFill>
          <a:blip r:embed="rId1"/>
          <a:stretch/>
        </p:blipFill>
        <p:spPr>
          <a:xfrm>
            <a:off x="1371600" y="1523880"/>
            <a:ext cx="6400800" cy="37814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1143000" y="5334120"/>
            <a:ext cx="69883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849-851 Air Mobile, air cellular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851-869 Private land mobile, public safety frequencies, trunk lines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E421 Fall 200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710F1-4097-4F8B-8001-684FF38C827F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CAA38F-C37B-4D3E-B80E-6D8C513D197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ell Frequency Reus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48" name="fig2.1cellreuse" descr=""/>
          <p:cNvPicPr/>
          <p:nvPr/>
        </p:nvPicPr>
        <p:blipFill>
          <a:blip r:embed="rId1"/>
          <a:stretch/>
        </p:blipFill>
        <p:spPr>
          <a:xfrm>
            <a:off x="1905120" y="1219320"/>
            <a:ext cx="4952880" cy="483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E421 Fall 200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8D652-0536-42B4-9170-E5DE84BDF928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2960DE-A7C0-4570-9F57-F94D96F90B4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nformation Sourc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Theodore Rappaport, 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Wireless Communications: Principles &amp; Practice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, Prentice-Hall, 1996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Gallagher &amp; Snyder, 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Mobile Telecommunications Networking with IS-41, McGraw-Hill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Tutorial on Mobile Communications from the International Engineering Consortium - on course web site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E421 Fall 200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CA771-50D1-467F-A932-902B851E00A0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D7F683-E224-4910-A02B-BB6322E414C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Locating Cell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50" name="fig2.2repeatedcells" descr=""/>
          <p:cNvPicPr/>
          <p:nvPr/>
        </p:nvPicPr>
        <p:blipFill>
          <a:blip r:embed="rId1"/>
          <a:stretch/>
        </p:blipFill>
        <p:spPr>
          <a:xfrm>
            <a:off x="3505320" y="1447920"/>
            <a:ext cx="5019480" cy="46353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838080" y="2438280"/>
            <a:ext cx="1828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N=19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(i= 3, j=2)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E421 Fall 200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2DD9D-E776-430A-868E-544E8FEF6686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EAA4C0-6617-4854-BB1C-238DB0AC08A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hannel Assignmen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Need to assign frequencies to users/cell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Fixed 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Each cell has predetermined number of channel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If all channels used, cell is “blocked”, no service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Cells can borrow channels from neighboring cell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Dynamic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No permanent allocation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Frequency band requested from MSC, assigned using reuse distance, blocking probabilities, use of channel, signal strength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E421 Fall 200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2E8A6-0BF6-42D5-9393-92968AE88986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CA9BB9-F571-4802-8331-F232314E4D0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51920" y="304560"/>
            <a:ext cx="304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andoff Scenario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55" name="Fig2.3umbrella" descr=""/>
          <p:cNvPicPr/>
          <p:nvPr/>
        </p:nvPicPr>
        <p:blipFill>
          <a:blip r:embed="rId1"/>
          <a:stretch/>
        </p:blipFill>
        <p:spPr>
          <a:xfrm>
            <a:off x="3048120" y="380880"/>
            <a:ext cx="5638680" cy="5605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E421 Fall 200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9BFC8-43E0-4D39-9F99-FA04EF835AD7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E78697-D8F8-4D54-BF4F-F77C0F7FD11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Umbrella Cell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57" name="fig2.4umbrellacellgif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381880" cy="411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E421 Fall 200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1C5CB-4FE6-45FE-9A8F-CE144D25BEFD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3C5D86-1284-486C-AC68-B6639EC66D4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nterference and Capacit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terference causes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cross-talk, poor quality,(voice channel) 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blocking and missed calls (control channel)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o-channel interferenc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Frequency reuse in nearby cell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djacent channel interferenc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Signal in adjacent frequency band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Signals from other cell companie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E421 Fall 200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D16AC-7F9E-4491-8AE3-3A9CD67ADCEE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6F7B5C-0C63-4D72-A518-CB11AB8107C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-Channel Interferenc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61" name="fig2.5interference" descr=""/>
          <p:cNvPicPr/>
          <p:nvPr/>
        </p:nvPicPr>
        <p:blipFill>
          <a:blip r:embed="rId1"/>
          <a:stretch/>
        </p:blipFill>
        <p:spPr>
          <a:xfrm>
            <a:off x="2057400" y="1066680"/>
            <a:ext cx="4921200" cy="5094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E421 Fall 200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2E42E-92FB-44B3-A158-C693105BC131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054E99-14E4-4227-911C-A99D6F7E684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djacent Channel Interferenc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omes from imperfect filters that allow frequency leakage into the band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erious problem if interferer is nearby, </a:t>
            </a: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near-far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effect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Nearby mobile transmits on a frequency near to that of a weak mobile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ase station receivers need high-Q filters to reject adjacent channel interference.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E421 Fall 200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AB2B7-6123-461A-A766-4AE9160DA8B5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07CD84-E3AB-48B4-9C51-4A17BFBD24E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ower Contro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ach mobile should use the minimum amount of power to have good quality.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ase station controls power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CDMA power toggles up and down continuously, like delta modulation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TDMA, AMPS adjusted by base station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E421 Fall 200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C5DE4-EC9E-4596-9702-0F6F65815A31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857CA3-830C-438E-9F8D-F211C494958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ncreasing Capacit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ell Sectoring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Divide cell up into angular sections, typically 3 or 6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Increases reuse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ell Splitting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Subdivide cell into smaller cells, increases the number of channels, keep same structure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Needs power control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E421 Fall 200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41F11-EF93-4F4E-BE25-B96A9433B8D3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1018CC-076B-4DE3-B084-BB6F10E44B9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4191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ell Sector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69" name="fig2.10cellsectors" descr=""/>
          <p:cNvPicPr/>
          <p:nvPr/>
        </p:nvPicPr>
        <p:blipFill>
          <a:blip r:embed="rId1"/>
          <a:stretch/>
        </p:blipFill>
        <p:spPr>
          <a:xfrm>
            <a:off x="4952880" y="304920"/>
            <a:ext cx="3427560" cy="5790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E421 Fall 200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909E3-2FA6-448C-B91A-AD3992665C97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BFD778-D517-4A32-9DA2-B36420E55C4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istor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1946 First mobile phones deployed, FM 120KHz, half-duplex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1950 FM 60KHz, better RF filters availabl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id 1960’s: 30KHz, full-duplex, IMTS (Improved Mobile Telephone Service), limited capacity: 12 channels, 543 paying customers in New York City (1976)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E421 Fall 200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565FF-2B40-4662-B891-F6DDFC55BBE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97CAB5-33CC-45AD-9A1E-A3BB0CE491E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3504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ell Splitt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71" name="fig2.9cellsplitting" descr=""/>
          <p:cNvPicPr/>
          <p:nvPr/>
        </p:nvPicPr>
        <p:blipFill>
          <a:blip r:embed="rId1"/>
          <a:stretch/>
        </p:blipFill>
        <p:spPr>
          <a:xfrm>
            <a:off x="4114800" y="152280"/>
            <a:ext cx="4711680" cy="6096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E421 Fall 200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BB6C7-4CB5-49F1-A11E-808823E6F6F1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2F56E5-1512-4242-86B2-1606D7619DF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MPS Spec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73" name="Table10.1AmpsSpec" descr=""/>
          <p:cNvPicPr/>
          <p:nvPr/>
        </p:nvPicPr>
        <p:blipFill>
          <a:blip r:embed="rId1"/>
          <a:stretch/>
        </p:blipFill>
        <p:spPr>
          <a:xfrm>
            <a:off x="1143000" y="1295280"/>
            <a:ext cx="7012080" cy="4789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E421 Fall 200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0370F-99BD-49E9-82C9-ECA404DD09B1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872FBE-F690-48E5-AB73-80133D6A613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MPS Voice Process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75" name="Fig10.1processing" descr=""/>
          <p:cNvPicPr/>
          <p:nvPr/>
        </p:nvPicPr>
        <p:blipFill>
          <a:blip r:embed="rId1"/>
          <a:stretch/>
        </p:blipFill>
        <p:spPr>
          <a:xfrm>
            <a:off x="685800" y="914400"/>
            <a:ext cx="7934400" cy="197640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914400" y="3124080"/>
            <a:ext cx="731520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Compander – compresses signal in amplitude, roughly 2:1 ratio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eviation Limiter –assures that the max. deviation is the +/- 12 kHz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ostdeviation limiter filter – LPF, attenuated signal to keep in band and avoid interfering with SAT tone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E421 Fall 200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D7EA0-B6BE-424B-A47F-879F79454F86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D6D22C-8927-40DE-9DC5-07A7F4576BA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ther Cell Spec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S-54 – Digital cellular in US, DQPSK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S136 PC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S 95 A – CDMA spread spectrum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Global system for mobiles (GSM)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TDMA with channelization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E421 Fall 200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D284A-310A-47BE-B6E6-AFEB43D9E872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E2C68B-F7E5-4E8B-B399-96DBD23E72F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-838080" y="914400"/>
            <a:ext cx="5638680" cy="281952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arly Mobile System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56" name="BL00393_" descr=""/>
          <p:cNvPicPr/>
          <p:nvPr/>
        </p:nvPicPr>
        <p:blipFill>
          <a:blip r:embed="rId1"/>
          <a:stretch/>
        </p:blipFill>
        <p:spPr>
          <a:xfrm>
            <a:off x="609480" y="1828800"/>
            <a:ext cx="3049560" cy="3871800"/>
          </a:xfrm>
          <a:prstGeom prst="rect">
            <a:avLst/>
          </a:prstGeom>
          <a:ln w="0">
            <a:noFill/>
          </a:ln>
        </p:spPr>
      </p:pic>
      <p:pic>
        <p:nvPicPr>
          <p:cNvPr id="57" name="TN00561_" descr=""/>
          <p:cNvPicPr/>
          <p:nvPr/>
        </p:nvPicPr>
        <p:blipFill>
          <a:blip r:embed="rId2"/>
          <a:stretch/>
        </p:blipFill>
        <p:spPr>
          <a:xfrm>
            <a:off x="7086600" y="4267080"/>
            <a:ext cx="1752480" cy="13338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2743200" y="1295280"/>
            <a:ext cx="2933640" cy="3048120"/>
          </a:xfrm>
          <a:custGeom>
            <a:avLst/>
            <a:gdLst/>
            <a:ahLst/>
            <a:rect l="l" t="t" r="r" b="b"/>
            <a:pathLst>
              <a:path w="1848" h="1920">
                <a:moveTo>
                  <a:pt x="1488" y="0"/>
                </a:moveTo>
                <a:cubicBezTo>
                  <a:pt x="1644" y="92"/>
                  <a:pt x="1800" y="184"/>
                  <a:pt x="1824" y="384"/>
                </a:cubicBezTo>
                <a:cubicBezTo>
                  <a:pt x="1848" y="584"/>
                  <a:pt x="1848" y="968"/>
                  <a:pt x="1632" y="1200"/>
                </a:cubicBezTo>
                <a:cubicBezTo>
                  <a:pt x="1416" y="1432"/>
                  <a:pt x="800" y="1656"/>
                  <a:pt x="528" y="1776"/>
                </a:cubicBezTo>
                <a:cubicBezTo>
                  <a:pt x="256" y="1896"/>
                  <a:pt x="88" y="1896"/>
                  <a:pt x="0" y="1920"/>
                </a:cubicBezTo>
              </a:path>
            </a:pathLst>
          </a:custGeom>
          <a:noFill/>
          <a:ln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86200" y="1447920"/>
            <a:ext cx="3137040" cy="3581280"/>
          </a:xfrm>
          <a:custGeom>
            <a:avLst/>
            <a:gdLst/>
            <a:ahLst/>
            <a:rect l="l" t="t" r="r" b="b"/>
            <a:pathLst>
              <a:path w="1976" h="2256">
                <a:moveTo>
                  <a:pt x="1824" y="0"/>
                </a:moveTo>
                <a:cubicBezTo>
                  <a:pt x="1892" y="100"/>
                  <a:pt x="1960" y="200"/>
                  <a:pt x="1968" y="384"/>
                </a:cubicBezTo>
                <a:cubicBezTo>
                  <a:pt x="1976" y="568"/>
                  <a:pt x="1944" y="904"/>
                  <a:pt x="1872" y="1104"/>
                </a:cubicBezTo>
                <a:cubicBezTo>
                  <a:pt x="1800" y="1304"/>
                  <a:pt x="1688" y="1456"/>
                  <a:pt x="1536" y="1584"/>
                </a:cubicBezTo>
                <a:cubicBezTo>
                  <a:pt x="1384" y="1712"/>
                  <a:pt x="1088" y="1808"/>
                  <a:pt x="960" y="1872"/>
                </a:cubicBezTo>
                <a:cubicBezTo>
                  <a:pt x="832" y="1936"/>
                  <a:pt x="928" y="1904"/>
                  <a:pt x="768" y="1968"/>
                </a:cubicBezTo>
                <a:cubicBezTo>
                  <a:pt x="608" y="2032"/>
                  <a:pt x="304" y="2144"/>
                  <a:pt x="0" y="2256"/>
                </a:cubicBezTo>
              </a:path>
            </a:pathLst>
          </a:custGeom>
          <a:noFill/>
          <a:ln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0" name="BD05584_" descr=""/>
          <p:cNvPicPr/>
          <p:nvPr/>
        </p:nvPicPr>
        <p:blipFill>
          <a:blip r:embed="rId3"/>
          <a:stretch/>
        </p:blipFill>
        <p:spPr>
          <a:xfrm>
            <a:off x="4267080" y="4267080"/>
            <a:ext cx="855720" cy="1143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E421 Fall 200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BBE4F-FE41-45B5-AB77-706B03DE3994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4C3201-EBCC-4D11-AD3C-D3A15E4206C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ellular Communica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1968 – Cell concept proposed by AT&amp;T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1983 – FCC allocates 40 MHz of spectrum in 800 MHz band, 30 kHz for each one-way channel (for full-duplex) analog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hannels split between two carrier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ore frequencies allocated, 1.8-1.9 GHz, etc. over tim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andwidth limited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E421 Fall 200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23019-CC5A-4E5E-8E60-E50445CF04C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7F0856-FD4C-4E68-9C4C-3EE3633BE4E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ellular Concep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4" name="fig1.5cellsystem" descr=""/>
          <p:cNvPicPr/>
          <p:nvPr/>
        </p:nvPicPr>
        <p:blipFill>
          <a:blip r:embed="rId1"/>
          <a:stretch/>
        </p:blipFill>
        <p:spPr>
          <a:xfrm>
            <a:off x="914400" y="1143000"/>
            <a:ext cx="7367760" cy="4813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E421 Fall 200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8DD4C-CA9F-417D-83B1-D0F4F2402E33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9501D9-8038-47C1-9452-CA4BEC4C742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igital Communica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arly 1990’s digital systems begin with the goal of increasing the number of users, D-AMP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DMA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DMA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DMA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E421 Fall 200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006CD-03B5-4F84-AECA-18468528290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A3A9BE-91FB-4687-B7E9-67C07FFE3CC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DMA-Frequency Division Multiple Acces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990720" y="1143000"/>
            <a:ext cx="6247800" cy="3812400"/>
            <a:chOff x="990720" y="1143000"/>
            <a:chExt cx="6247800" cy="3812400"/>
          </a:xfrm>
        </p:grpSpPr>
        <p:sp>
          <p:nvSpPr>
            <p:cNvPr id="69" name=""/>
            <p:cNvSpPr/>
            <p:nvPr/>
          </p:nvSpPr>
          <p:spPr>
            <a:xfrm flipV="1">
              <a:off x="2209680" y="1676160"/>
              <a:ext cx="0" cy="251460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209680" y="4191120"/>
              <a:ext cx="50288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419360" y="4495680"/>
              <a:ext cx="2209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990720" y="1143000"/>
              <a:ext cx="380880" cy="33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Frequency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209680" y="3429000"/>
              <a:ext cx="274284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209680" y="2209680"/>
              <a:ext cx="2742840" cy="381240"/>
            </a:xfrm>
            <a:prstGeom prst="rect">
              <a:avLst/>
            </a:prstGeom>
            <a:solidFill>
              <a:srgbClr val="ff66cc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209680" y="2895480"/>
              <a:ext cx="1523520" cy="381240"/>
            </a:xfrm>
            <a:prstGeom prst="rect">
              <a:avLst/>
            </a:prstGeom>
            <a:solidFill>
              <a:srgbClr val="ff7c8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809880" y="2895480"/>
              <a:ext cx="2742840" cy="381240"/>
            </a:xfrm>
            <a:prstGeom prst="rect">
              <a:avLst/>
            </a:prstGeom>
            <a:solidFill>
              <a:srgbClr val="66ffff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914400" y="5181480"/>
            <a:ext cx="6781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-Requires no synchronization or central timing, channels independent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E421 Fall 200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84225-56FF-4B49-886B-CDEF25790E0C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C2E736-48E8-4129-B701-7716190539B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DMA-Time Division Multiple Access: Fixed Slo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1143000" y="1752480"/>
            <a:ext cx="6019920" cy="3812400"/>
            <a:chOff x="1143000" y="1752480"/>
            <a:chExt cx="6019920" cy="3812400"/>
          </a:xfrm>
        </p:grpSpPr>
        <p:sp>
          <p:nvSpPr>
            <p:cNvPr id="80" name=""/>
            <p:cNvSpPr/>
            <p:nvPr/>
          </p:nvSpPr>
          <p:spPr>
            <a:xfrm flipV="1">
              <a:off x="2133720" y="2285640"/>
              <a:ext cx="0" cy="251460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133720" y="4800600"/>
              <a:ext cx="502920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343400" y="5105160"/>
              <a:ext cx="2210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143000" y="1752480"/>
              <a:ext cx="381240" cy="33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Frequency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486400" y="2666880"/>
              <a:ext cx="762120" cy="21337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286000" y="2666880"/>
              <a:ext cx="762120" cy="2133720"/>
            </a:xfrm>
            <a:prstGeom prst="rect">
              <a:avLst/>
            </a:prstGeom>
            <a:solidFill>
              <a:srgbClr val="ff66cc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276720" y="2666880"/>
              <a:ext cx="762120" cy="2133720"/>
            </a:xfrm>
            <a:prstGeom prst="rect">
              <a:avLst/>
            </a:prstGeom>
            <a:solidFill>
              <a:srgbClr val="ff7c8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343400" y="2666880"/>
              <a:ext cx="762120" cy="2133720"/>
            </a:xfrm>
            <a:prstGeom prst="rect">
              <a:avLst/>
            </a:prstGeom>
            <a:solidFill>
              <a:srgbClr val="66ffff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E421 Fall 200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CDE77-95A0-4403-BC43-3CFE17B462F3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5A0858-F8CC-4A20-A952-BAC9D8C37AF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10T23:23:18Z</dcterms:created>
  <dc:creator>Julie A. Dickerson</dc:creator>
  <dc:description/>
  <dc:language>en-US</dc:language>
  <cp:lastModifiedBy>Julie A. Dickerson</cp:lastModifiedBy>
  <dcterms:modified xsi:type="dcterms:W3CDTF">2001-12-11T21:27:27Z</dcterms:modified>
  <cp:revision>21</cp:revision>
  <dc:subject/>
  <dc:title>Introduction to the Analog Mobile Phone System (AMPS)</dc:title>
</cp:coreProperties>
</file>